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A0C1-17FA-48E1-A8D0-11C07B8B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DE67-7E0E-4C43-96F3-5BC09C3F2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9BB-AF50-4B67-9C26-871997CB5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312E-F4C0-43F4-8420-566A0D68B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4D1-A896-4C1E-BCE1-EEB0EEA170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E0D0-3294-4ED3-AE1E-2ED2E513A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D7DC-3C0A-44A3-BF5D-F81A5988C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8751-E781-4B3C-884A-EFE07366F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4B26-5276-4959-A6CD-6C03DF4D0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D7F-FF0E-4FFC-AA81-0D8FF6A860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B4E-0A4F-43CE-AC13-CD49C100A0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D95-5141-4778-B8A5-0D1E902CF9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AFF-7077-4CA1-89DF-B2B72F39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6AC-590C-4CC2-AF54-315E17B0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3A6-9741-478D-BB36-5852DB95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457-D175-4485-9CB8-893FDC61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AD3-3D38-489F-8E27-1A8D4E0E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80D-3CF0-4913-B348-8782BC30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15D4-786E-4784-9C91-B9B90D7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0A5-400C-4F82-B67F-F57FA58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1C08-9BC0-4539-9345-F830BC74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470-E6DB-4367-8551-2CCF05D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D7E-DD0E-42A0-B2E9-A276CC8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900-FADB-4B9A-AA42-56C87EDF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C02-4158-4D22-AF82-C2506DB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79C-29A2-4C12-92B3-C45BE6B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E123-D273-4EAE-8CA7-4205C590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E7C-8395-418E-840D-E455C7FF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AB53-F028-4F2C-8842-1AC3E7B8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F39-8560-47AA-9E77-002458C4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760-D454-4075-BF42-5789426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3E1-4466-46A2-9F63-2F5FFD41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EC9-7E3A-4584-BB64-1314D7C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59A-B6C9-4F99-8F1A-D9D1D65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3DD-4676-400A-A045-7736E72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41D-43FB-4A11-B575-661EB50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820-0DFA-4C81-90FF-202B51CB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F54-2EAE-4232-869C-20E062CD7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csummersession2.wikispaces.com/file/view/Website+evaluation+rubric1+-+Primary.pdf" TargetMode="External"/><Relationship Id="rId2" Type="http://schemas.openxmlformats.org/officeDocument/2006/relationships/hyperlink" Target="http://bcsummersession2.wikispaces.com/file/view/Website+evaluation+rubric1+-+Primary.pdf" TargetMode="External"/><Relationship Id="rId3" Type="http://schemas.openxmlformats.org/officeDocument/2006/relationships/hyperlink" Target="http://bcsummersession2.wikispaces.com/file/view/Website+evaluation+rubric2+-+Intermediate.pdf" TargetMode="External"/><Relationship Id="rId4" Type="http://schemas.openxmlformats.org/officeDocument/2006/relationships/hyperlink" Target="http://bcsummersession2.wikispaces.com/file/view/Website+evaluation+rubric2+-+Intermediate.pdf" TargetMode="External"/><Relationship Id="rId5" Type="http://schemas.openxmlformats.org/officeDocument/2006/relationships/hyperlink" Target="http://bcsummersession2.wikispaces.com/file/view/Website+evaluation+rubric3+-+Secondary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hyperlink" Target="http://school.discoveryeducation.com/schrockguide/" TargetMode="External"/><Relationship Id="rId4" Type="http://schemas.openxmlformats.org/officeDocument/2006/relationships/hyperlink" Target="http://www.homeworkspot.com/" TargetMode="External"/><Relationship Id="rId5" Type="http://schemas.openxmlformats.org/officeDocument/2006/relationships/hyperlink" Target="http://www.atozteacherstuff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tedstreaming.com/" TargetMode="External"/><Relationship Id="rId2" Type="http://schemas.openxmlformats.org/officeDocument/2006/relationships/hyperlink" Target="http://www.carolhurs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.gov" TargetMode="External"/><Relationship Id="rId2" Type="http://schemas.openxmlformats.org/officeDocument/2006/relationships/hyperlink" Target="http://en.wikipedia.org/wiki/.edu" TargetMode="External"/><Relationship Id="rId3" Type="http://schemas.openxmlformats.org/officeDocument/2006/relationships/hyperlink" Target="http://en.wikipedia.org/wiki/.com" TargetMode="External"/><Relationship Id="rId4" Type="http://schemas.openxmlformats.org/officeDocument/2006/relationships/hyperlink" Target="http://en.wikipedia.org/wiki/.mil" TargetMode="External"/><Relationship Id="rId5" Type="http://schemas.openxmlformats.org/officeDocument/2006/relationships/hyperlink" Target="http://en.wikipedia.org/wiki/.org" TargetMode="External"/><Relationship Id="rId6" Type="http://schemas.openxmlformats.org/officeDocument/2006/relationships/hyperlink" Target="http://en.wikipedia.org/wiki/.net" TargetMode="External"/><Relationship Id="rId7" Type="http://schemas.openxmlformats.org/officeDocument/2006/relationships/hyperlink" Target="http://en.wikipedia.org/wiki/.in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Evaluating </a:t>
            </a:r>
            <a:br>
              <a:rPr sz="6600"/>
            </a:b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Web Site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. 7215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rie Edwards, Instru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Evaluation Rubr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bcsummersession2.wikispaces.com/file/view/Website+evaluation+rubric1+-+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rimary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bcsummersession2.wikispaces.com/file/view/Website+evaluation+rubric2+-+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Intermediate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bcsummersession2.wikispaces.com/file/view/Website+evaluation+rubric3+-+Secondary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b 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1 website from each of the different to review from the list of sites on the Resource page of the wi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2174760"/>
            <a:ext cx="4345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ducational Port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discoveryeducation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thinkfinity.or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 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school.discoveryeducation.com/schrockguide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homeworkspot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www.atozteacherstuff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teachersfirst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proteacher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hildren Search Eng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kidsclick.org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yahooligans.yahoo.com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askforkids.co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teractive Si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ttp://www.theteachersguide.com/interactivesites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aluating Web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of the information is placed there by reliabl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create a website to express their personal opinion, ideas and phil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thor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the credibility of the person or persons who author and create the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uthor clearly identified?  If you cannot identify the creator of the webpage, you may wish to avoid this s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the credentials of the author, creator or website.  What evidence is there the author qualifies to publish on this top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the author listed his/her occupation, years of experience, position, education or other credenti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unitedstreaming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carolhurst.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fili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professional organization, school, school district, university, company or government office with which a particular web site is asso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URL and domain name to identify which type of organization maintains the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C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codes - .us, .uk, 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rpose &amp; Obje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is the reason the website was created or intent of the web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ity is the process of determining or interpreting the intent or purpose of the website and if it is free of bias, such as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is the information the webpage prov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content  valid and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information on the page relate to your curriculum and instructional standa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opics are covered and is it clearly labeled and well organiz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hat level is the information written and how thorough i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links add value and assist you in meeting your instructional go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rning Proc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content engages students to use higher-order thinking skills to go beyond the simple acquisition of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dience &amp; Curr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dience is the individual or group intended to view the web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is the measure of how up to date, or timely the content is and how often it is upd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ig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sign is the way the web site is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web site design determines the effectiveness by enhancing it or detracting from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0:28:20Z</dcterms:created>
  <dc:creator>vedwards</dc:creator>
  <dc:description/>
  <dc:language>en-US</dc:language>
  <cp:lastModifiedBy>Edwards Valrie</cp:lastModifiedBy>
  <cp:lastPrinted>2012-08-07T12:00:35Z</cp:lastPrinted>
  <dcterms:modified xsi:type="dcterms:W3CDTF">2012-08-07T17:48:37Z</dcterms:modified>
  <cp:revision>21</cp:revision>
  <dc:subject/>
  <dc:title>Slide 1</dc:title>
</cp:coreProperties>
</file>